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F7E-268A-4F22-937C-0508BD77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DE7-8C3B-4CA5-BB3E-1CF2046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EA91D-F2C3-4ED6-A990-A73384D5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29A43-31E8-4A97-994B-0E963C5E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77374-CBE5-4B8C-B5EE-920AB722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78BBC-734F-4A76-8922-0B50B142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0530D-9CBA-4F37-BDA7-749BB59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A3CCC-BFBF-4DFB-A92C-C3ED628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D8413-D387-4BA5-909E-26CDC563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A35CF-965C-4D67-953E-750BB075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C8824-03E2-4DF2-B6CE-832AD56A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2FCA6-3B20-4CD0-9355-8D81CA39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7E2-53ED-4B14-8684-F96818C0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EC72-D7B9-4EC3-A409-A8EDF3F9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C27B3-5616-400E-9BA0-21ADEB5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ACFC6-4DE6-42EA-84ED-E822EED5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322BA-F356-4BCE-851B-42D95851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4DEC1-732E-4349-9F5C-EF0E38F0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05E67-E6D9-47A5-81B8-3713EFF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78FAC-702A-487F-86D7-2FF6C20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2BF61-C671-4426-A089-7BA473F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EA6D0-874B-4922-AD8D-41075653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B2B18-5250-426A-914F-45B740EB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B11-03EE-4E7B-AD8C-D369B1D6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9EA99-E1C1-493B-B86A-E1F8C766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E9791-E0F8-4F86-A482-41D21681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2E783-0819-4797-8BBF-BCEEAA5C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3E9D2-BA52-4B7C-A488-87CEBDBD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F247E-227A-467E-B75F-6AC20EAC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F4D7C-7FF2-4706-A6FE-E7BC096C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8FAB-53E8-4482-A2F9-21979BE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0D0D0-9F6D-4388-BC12-CD616E2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F442A-16E7-4C58-A4D4-7830C0C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24420-95BC-490E-8F13-8CF4DC8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4E85-1645-4992-8E70-E99DF210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FE59C-694D-4219-9414-34A56CEF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23633-CBB1-4835-A50F-A05F5ED9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9B36-8566-4DBD-84D9-0C406700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8DFE2-C5E9-44DA-90DE-B7383062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FC8CD-4991-4685-9B31-0A3C575D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0EB68-86D0-42E3-B7CC-40783BAB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8D6F5-E08F-4100-8203-0C11325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1E7A9-3672-414D-AF15-8C58FC0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C900D-81C2-4CF7-B934-2135DE9C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E5C02-D817-4EB4-BC3A-B0D5C8C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FE59-15D9-41AF-87B2-13AF163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6B9A4-8BA9-478A-A3EC-6B2168A4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E03B7-62D8-4504-9517-D4D3769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34299-CA94-46C6-9FCC-BAB537BB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0D9D0-4498-41C4-8D3D-F2F66F49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57079-EBFA-4ACA-8767-D68EA596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FEB2-EDA9-46E5-A11F-0397BCD0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3EFD-1371-4EF7-BB87-A0EBC863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E3C-6A05-472F-BACF-08BD7C39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11C6-B773-47D9-9FCF-855ACA93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81D1-496C-4DD4-8449-E13BC549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043-9788-40FE-ADDB-E6F3ED2C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633C-AAD6-4EA5-9D66-882F76D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F4D2-BDB0-4D4D-A478-2017B26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AAA7-D885-4E09-8511-8F041704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E13C-B97A-44D5-BFFE-3073B9DD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3C43-073A-49A5-B611-0A7D25D7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2F3A-C121-430F-A3D9-CA975643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77D7-FD9E-4000-8A8B-2D94644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54CC-15AF-45DA-915B-D0E4617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8912-EA52-4C14-9B4E-08E075AA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F00E-1F66-4121-ABD0-8255EB87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6E3-3D71-4BCD-BEEF-67C3AB16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3995-3EED-446E-8AFB-723FE25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13FC-C533-48D6-88F8-B6EADD5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28C9-C815-424D-9F72-8CE7C90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B83A-3198-4727-8E52-AA9E29A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FD9F-EFA0-4FE6-96E3-80F180D8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14D2-AC6A-4049-B351-F3249FCF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8AFE-876C-4181-8100-EB154E81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144E1-F03B-42CE-94C8-A57ED846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DEED-A3A7-4D95-B8E7-FB3F0FA6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5DE6-1D21-43EF-B83D-7948CEEB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5C7-E086-4FBA-B7AA-F71E551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C168-E066-40C5-BD51-5CA8D528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E840-361D-4160-8474-3E6CAB65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8ACA-E963-4346-90AA-DAB52325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3D2C-A3FF-4C42-BA1A-7DA9F7A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B3E1-9AD7-4A4F-A6CE-DDD73D5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9592-4E0D-4FFC-A4D4-57B847BB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60F0-F37D-4176-AFA4-DA95D4E7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A5C4-48E5-44CC-964A-A70E2535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BF9F-EEE2-46AB-84C0-61AAD3D6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73B41-AE42-4B00-9CC6-FDC35BE3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9B0-B93D-4466-B6DB-72FA5151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3CE57-F479-47FD-AB54-A9C1DBE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40485-08F3-4869-9B02-78CA06CD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2BD5-028F-4A60-94A3-D4E2B40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DB88-87C0-4A0D-AC08-F6323B59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6BD6-4E9B-49D7-9C66-501D7CA4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8C6F-C57F-4489-AC5F-B908920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02FC-B10D-490C-B413-D2FD581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3569F-0172-433A-8C4D-C4A1656D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D4512-F4D4-4788-A2FA-F88AFC98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8B2E-9B9B-411B-A8B7-D9F26424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C5A-82E4-43B6-8DE6-8D386887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D013E-0273-40D8-8E2E-C96BFC85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E358-73FF-4213-80A6-60B513C0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21A90-97AE-4755-AD05-DBAA93E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BC76-7788-48BA-8B3E-7382210F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C6264-EB7B-4373-BAC1-CCAFB7A8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EC57B-C0CD-4F6F-A6A6-49E589F3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06C34-F663-4C56-9C01-7352A652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0773-CB47-46A9-ACDA-93AB47D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3828-BF14-4B32-B399-5A8420E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78134-2088-4D9A-A8F3-B8F2D6F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D87-23DC-47C1-AEB5-E68C0D5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27FC-9F1C-462F-9FAF-336665E4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DE83-4165-405E-8D74-12791A26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9201E-A68A-4487-8D3D-9A4AB1DA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191FE-BB68-47D7-A5B1-F712E320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AD0A-6FB8-4D56-B979-730BFED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FB43-AAC8-4CB8-89ED-0E9FFD37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B330-277F-4CAB-A25B-B6609249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ACA22-F53E-45AE-A361-821A1391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9CC1-8C8A-4347-B4FA-27CAFC5E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3EF20-2B92-4139-A9E3-B93F611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1D5-9F7F-42BD-8FF9-E315DDB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AE7F0-54F7-4CF6-A4D5-BEC8CC19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19879-6294-435F-9710-30AAEAE5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B1BA-9AC6-4CF1-8B64-52F061C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4BE1A-3A45-4E0F-B632-2E84AEC7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1A18-870F-43E6-9DAF-E1D2EF2A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3B5F2-C7DC-4EA7-8240-8F9F13A4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6D246-9288-4740-8294-903772F2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1F88-1620-4AB3-B6A0-F7E66363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4BA1-F771-48A5-945F-9ED111E0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7E36-966D-454B-8F70-081E3D4F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2ED-4AB6-4555-BEFD-91CEB05A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198F6-4B06-42DB-A94C-5BFA5FF3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4F108-DBCC-4BF1-9A82-EDD2A454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E2A71-B886-4CC0-B8E3-D6F1D627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4D08-6D06-45FD-B5CA-9D26A95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3498-442B-4636-8BC2-A1AC5EC0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A8FB-3FC3-4EE8-AB91-9F64ECC7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7163-F0C7-4E20-A8E5-AEADAC26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8F19-E6E8-4CD0-A625-3222FAD5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11C63-1476-4ACA-A925-5A35CF5F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CB1A5-CB53-4C6A-B4A5-3B5B858B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FE5A-C6F6-4918-A248-6A535E106C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F01-6E49-4007-BBA8-83DDE882889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397C-2CB2-45D3-B224-3B3FEFB821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7BA-15F1-4E72-939D-7AB23255CF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5645-0B75-4140-9E66-85734DAA12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7ECF-B928-454C-B6C9-F6796DF159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E6F2-E340-4A94-9F69-4A0352951E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CEF-8755-40A1-95D4-042E4CCA00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B9D6-8BF1-4CA1-8E07-C72525D3FD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449A-0DC3-46E9-9C09-F5C6BC8A82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153-1BCD-4D91-A7CC-1EF4B027A6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644E-925B-440E-B969-A858E62285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3 Spojme hla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iesni zvuč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jme hlasy v piesni zvučn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áš spev sa nesie v dia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ejte tóny ľubozvuč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tvorstvo Pána chvá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svojej nekoneč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om nám sa st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me vďačne meno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všemohúc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y neba vzdal sa pre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covský dom opust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íž on niesol namiesto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lhy naše zapla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sa začal slobody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äzňov z rabstva vymani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Slávme vďačne meno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všemohúc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ou vinou strašnú trýz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Pán na seba v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el za nás, na tretí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hrobu ako víťaz vst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nám, ľuďom, novú p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spásy darov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Slávme vďačne meno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všemohúceho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43:58Z</dcterms:modified>
  <cp:revision>9</cp:revision>
  <dc:subject/>
  <dc:title>Je veľký náš Pán, on slávy je Kráľ Nech do všetkých strán  spev vrúcnych znie chvál.</dc:title>
</cp:coreProperties>
</file>